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A645-30DC-4C4E-A764-B12E9293B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6BC1-5C97-4FFF-B593-182B29C5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59DF-1717-41A4-8E47-D81E94648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1C17-B5B0-4489-BEF0-41828243F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D1EF-3DF5-4C7E-B449-B23F9914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1507-0BD3-4187-8E12-AE8EE73D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8AFF-7755-42AA-BCC0-1CF98954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F6A4-EBFC-42C4-A1AF-14C8C8B5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454F-C278-474B-9827-DE29FDB9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98A9-CB79-40F2-B8A2-09CA1861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8A43-5992-4983-B093-3BA5BE58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D25D-06C6-4821-995E-E499ABD5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022C-9A82-4D1D-9072-F4630E86C491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1.3 Weather and Clim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042920" y="1571760"/>
            <a:ext cx="669312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recipi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clu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Ra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Sno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Hai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Sle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lim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ells us the average weather conditions of a certain place over a long period of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eather and Clim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at is the difference between the tw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hinook- a warm wind that blows East from the Rockies to evaporate Calgary’s snow with little or no tr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Weather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efers to the day to day conditions in the Earth’s atmosp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o find out about weather we check measurements of its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eath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268280"/>
            <a:ext cx="8229600" cy="5400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82803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eath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762120" y="1484280"/>
            <a:ext cx="76197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eath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1116000" y="1268280"/>
            <a:ext cx="66960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806436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eath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684360" y="1268280"/>
            <a:ext cx="77752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eath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84834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1:41:26Z</dcterms:created>
  <dc:creator>Jason</dc:creator>
  <dc:description/>
  <dc:language>en-US</dc:language>
  <cp:lastModifiedBy>Jason</cp:lastModifiedBy>
  <dcterms:modified xsi:type="dcterms:W3CDTF">2010-09-29T12:38:29Z</dcterms:modified>
  <cp:revision>3</cp:revision>
  <dc:subject/>
  <dc:title>1.3 Weather and Climate</dc:title>
</cp:coreProperties>
</file>